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E84-7782-4BB8-A8C7-02A624CC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EF0-F300-4EE0-B523-9F8F7AED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15F-2D84-4916-9155-4A0F0A5F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12C-8CA6-4ACF-AABE-52B56E0A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BD1-6D40-413D-9A84-6CB731E9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1E9F-D1A9-43FE-85BB-880CD90E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A60-C843-42B6-8D4E-712E03D9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BA42-4BDC-4A60-A312-4293E114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353-28CC-4A24-B8EF-6F29D325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14F-75F7-432D-9D7B-F95038A1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0DA-EB7B-4E4F-8741-02048640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82C-36F1-49E1-AACE-CB47E024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C0D3-A503-445D-A1A9-B9D432F9A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.jpeg"/><Relationship Id="rId3" Type="http://schemas.openxmlformats.org/officeDocument/2006/relationships/slide" Target="slide12.xml"/><Relationship Id="rId4" Type="http://schemas.openxmlformats.org/officeDocument/2006/relationships/image" Target="../media/image5.jpeg"/><Relationship Id="rId5" Type="http://schemas.openxmlformats.org/officeDocument/2006/relationships/slide" Target="slide14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image" Target="../media/image6.jpeg"/><Relationship Id="rId4" Type="http://schemas.openxmlformats.org/officeDocument/2006/relationships/slide" Target="slide17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wmf"/><Relationship Id="rId3" Type="http://schemas.openxmlformats.org/officeDocument/2006/relationships/slide" Target="slide7.xml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wmf"/><Relationship Id="rId4" Type="http://schemas.openxmlformats.org/officeDocument/2006/relationships/slide" Target="slide5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image" Target="../media/image3.wmf"/><Relationship Id="rId4" Type="http://schemas.openxmlformats.org/officeDocument/2006/relationships/slide" Target="slide11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ly misuse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lston Mo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UTurnArrow">
            <a:hlinkClick r:id="rId1" action="ppaction://hlinksldjump"/>
          </p:cNvPr>
          <p:cNvSpPr/>
          <p:nvPr/>
        </p:nvSpPr>
        <p:spPr>
          <a:xfrm>
            <a:off x="5029200" y="3352680"/>
            <a:ext cx="1771560" cy="177192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920"/>
              <a:gd name="textAreaBottom" fmla="*/ 1772280 h 17719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Commonly misused wor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icture that shows the correct usage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fter you eat all your vegetables you’ll be able to eat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ypically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952880" y="3962520"/>
            <a:ext cx="2514600" cy="1892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696080" y="464832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29400" y="41911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UTurnArrow">
            <a:hlinkClick r:id="rId1" action="ppaction://hlinksldjump"/>
          </p:cNvPr>
          <p:cNvSpPr/>
          <p:nvPr/>
        </p:nvSpPr>
        <p:spPr>
          <a:xfrm>
            <a:off x="5410080" y="342900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apita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Caro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i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alei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D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1749240" cy="1749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10280" y="44956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4191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UTurnArrow">
            <a:hlinkClick r:id="rId1" action="ppaction://hlinksldjump"/>
          </p:cNvPr>
          <p:cNvSpPr/>
          <p:nvPr/>
        </p:nvSpPr>
        <p:spPr>
          <a:xfrm>
            <a:off x="2960640" y="313524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ly misused word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picture that shows the correct usage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People exercise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ion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ik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People write letters 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iona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562720" y="3657600"/>
            <a:ext cx="1871640" cy="2514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191120"/>
            <a:ext cx="2286000" cy="1673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9246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102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UTurnArrow"/>
          <p:cNvSpPr/>
          <p:nvPr/>
        </p:nvSpPr>
        <p:spPr>
          <a:xfrm>
            <a:off x="5021280" y="304812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ly misused words.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to meet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d to g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incip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 my child’s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rincipal’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ff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8120" y="4038480"/>
            <a:ext cx="1427040" cy="179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38880" y="4648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Commonly misuse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marter th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 went to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I than w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my hai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86600" y="41911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UTurnArrow"/>
          <p:cNvSpPr/>
          <p:nvPr/>
        </p:nvSpPr>
        <p:spPr>
          <a:xfrm>
            <a:off x="4919760" y="346860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’re g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fair 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there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48520" y="39625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UTurnArrow"/>
          <p:cNvSpPr/>
          <p:nvPr/>
        </p:nvSpPr>
        <p:spPr>
          <a:xfrm>
            <a:off x="4354560" y="3686040"/>
            <a:ext cx="1771560" cy="177192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920"/>
              <a:gd name="textAreaBottom" fmla="*/ 1772280 h 177192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job! Hope you learned a lot about commonly misused used words from this qui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33526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UTurnArrow">
            <a:hlinkClick r:id="rId2" action="ppaction://hlinksldjump"/>
          </p:cNvPr>
          <p:cNvSpPr/>
          <p:nvPr/>
        </p:nvSpPr>
        <p:spPr>
          <a:xfrm>
            <a:off x="4038480" y="3276720"/>
            <a:ext cx="1771920" cy="1771560"/>
          </a:xfrm>
          <a:custGeom>
            <a:avLst/>
            <a:gdLst>
              <a:gd name="textAreaLeft" fmla="*/ 0 w 1771920"/>
              <a:gd name="textAreaRight" fmla="*/ 457200 w 177192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mmonly misused words.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 we w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One plus on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the st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81680" y="41148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next 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to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UTurnArrow">
            <a:hlinkClick r:id="rId1" action="ppaction://hlinksldjump"/>
          </p:cNvPr>
          <p:cNvSpPr/>
          <p:nvPr/>
        </p:nvSpPr>
        <p:spPr>
          <a:xfrm>
            <a:off x="5238720" y="3251160"/>
            <a:ext cx="1771560" cy="1771560"/>
          </a:xfrm>
          <a:custGeom>
            <a:avLst/>
            <a:gdLst>
              <a:gd name="textAreaLeft" fmla="*/ 0 w 1771560"/>
              <a:gd name="textAreaRight" fmla="*/ 457200 w 1771560"/>
              <a:gd name="textAreaTop" fmla="*/ 681480 h 1771560"/>
              <a:gd name="textAreaBottom" fmla="*/ 1771920 h 17715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monly misused wo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correct usage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ke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eggs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uman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a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00400" y="3200400"/>
            <a:ext cx="1589040" cy="1839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nex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3733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21:40Z</dcterms:created>
  <dc:creator> </dc:creator>
  <dc:description/>
  <dc:language>en-US</dc:language>
  <cp:lastModifiedBy> </cp:lastModifiedBy>
  <dcterms:modified xsi:type="dcterms:W3CDTF">2009-03-17T22:21:40Z</dcterms:modified>
  <cp:revision>3</cp:revision>
  <dc:subject/>
  <dc:title>Commonly misused words</dc:title>
</cp:coreProperties>
</file>